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1.pct" ContentType="image/x-pict"/>
  <Override PartName="/ppt/media/image8.pct" ContentType="image/x-pict"/>
  <Override PartName="/ppt/media/image12.pct" ContentType="image/x-pict"/>
  <Override PartName="/ppt/media/image7.pct" ContentType="image/x-pict"/>
  <Override PartName="/ppt/media/image6.pct" ContentType="image/x-pict"/>
  <Override PartName="/ppt/media/image10.pct" ContentType="image/x-pict"/>
  <Override PartName="/ppt/media/image19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4.jpeg" ContentType="image/jpeg"/>
  <Override PartName="/ppt/media/image9.pct" ContentType="image/x-pict"/>
  <Override PartName="/ppt/media/image3.pct" ContentType="image/x-pict"/>
  <Override PartName="/ppt/media/image20.pct" ContentType="image/x-pict"/>
  <Override PartName="/ppt/media/image18.pct" ContentType="image/x-pict"/>
  <Override PartName="/ppt/media/image1.jpeg" ContentType="image/jpeg"/>
  <Override PartName="/ppt/media/image2.jpeg" ContentType="image/jpeg"/>
  <Override PartName="/ppt/media/image5.pct" ContentType="image/x-pi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1775-818B-4BD6-A2E0-5162E9ED7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CBC8-17B6-47E4-8DAB-CBAE5DBC7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A9DC-4F49-4378-BB5A-53F31C430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2DDE-F158-4927-905A-CD5525E5B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5EE4-6B5F-493F-B3A6-E3C4FCBFA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B86E-DE39-4080-B447-567591DFD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9EEC-6734-42C8-840F-A37C5B62C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0CA7-8007-4D36-BD5D-51713C82B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6FFC-E760-4938-B1D0-6C966FEA1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C93E-5F5D-47A9-A6FB-FEBD0C874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24B1-B3D3-446C-BD84-14033B20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6611-5DBD-4D14-96E2-9C247F147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DA2F9-955E-46E6-853E-D017EF7578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image" Target="../media/image19.pct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ct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ct"/><Relationship Id="rId3" Type="http://schemas.openxmlformats.org/officeDocument/2006/relationships/image" Target="../media/image4.jpeg"/><Relationship Id="rId4" Type="http://schemas.openxmlformats.org/officeDocument/2006/relationships/image" Target="../media/image5.pct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image" Target="../media/image9.pct"/><Relationship Id="rId3" Type="http://schemas.openxmlformats.org/officeDocument/2006/relationships/image" Target="../media/image10.pct"/><Relationship Id="rId4" Type="http://schemas.openxmlformats.org/officeDocument/2006/relationships/image" Target="../media/image11.pct"/><Relationship Id="rId5" Type="http://schemas.openxmlformats.org/officeDocument/2006/relationships/image" Target="../media/image12.pct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image" Target="../media/image17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rwin’s Observ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heory of Evolution by Natural 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observations (cont’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ed mechanisms of artificial selection (pigeon breeding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939000" y="2438280"/>
            <a:ext cx="1900080" cy="39625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981080" y="3200400"/>
            <a:ext cx="4343400" cy="33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observations (cont’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mas Malthus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ssay                      on the Principle of                    Popul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179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638680" y="1752480"/>
            <a:ext cx="30038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heory of Evolution by Natural S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bservation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Individuals within a species vary in many way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bservation 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Some of this variability can be inheri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bservation 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Every generation produces far more offspring that can survive and pass on their vari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bservation 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Populations of species tend to remain  stable in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heory of Evolution by Natural S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ference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Members of the same species compete with each other for surviv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ference 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Individuals with more favourable variations are more likely to survive and pass them on.  Survival is not rand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ference 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As these individuals contribute proportionally more offspring to succeeding generations, the favourable variations will become more common.  (This is natural selection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MS Bea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les Darwin embarked on the second voyage of the HMS Beagle on December 27,1831, on a survey expedition under the command of Captain Robert Fitzro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in purpose of the expedition was to map out the southern coast of South America, and Darwin was on board as a geologist, to collect specime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MS Beagle (cont’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journey was supposed to last 2 years, but the ship returned to England on October 2, 1836, almost 5 years after its depar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86000" y="4038480"/>
            <a:ext cx="457200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arwin Sa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 flora &amp; fauna (plants &amp; animals) on the Galapagos as on mainland South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38080" y="3581280"/>
            <a:ext cx="2895840" cy="18129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886200" y="3048120"/>
            <a:ext cx="2158920" cy="3124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248520" y="3048120"/>
            <a:ext cx="2098440" cy="2313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6248520" y="5486400"/>
            <a:ext cx="160020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arwin Saw (cont’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species of finches and mockingbi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334120" y="2514600"/>
            <a:ext cx="3146400" cy="3733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04920" y="3124080"/>
            <a:ext cx="4724280" cy="26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observation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ssil record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yptodon (like the armadill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gatherium (like the slot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3733560" cy="1785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809880" y="4800600"/>
            <a:ext cx="2286000" cy="1817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6324480" y="1600200"/>
            <a:ext cx="2349720" cy="18921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6705720" y="3352680"/>
            <a:ext cx="1689120" cy="1270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6934320" y="4648320"/>
            <a:ext cx="16761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observations (cont’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ative anatomy of anim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ologous featur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133720" y="3048120"/>
            <a:ext cx="434484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observations (cont’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ative anatomy of anim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ogous featur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3581280"/>
            <a:ext cx="4572000" cy="22780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181480" y="2514600"/>
            <a:ext cx="3581640" cy="26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observations (cont’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ative anatomy of anim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stigial featur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952880" y="2743200"/>
            <a:ext cx="3581640" cy="34383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85800" y="3200400"/>
            <a:ext cx="4038480" cy="21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9T06:28:46Z</dcterms:created>
  <dc:creator>rubina khan</dc:creator>
  <dc:description/>
  <dc:language>en-US</dc:language>
  <cp:lastModifiedBy>rubina khan</cp:lastModifiedBy>
  <dcterms:modified xsi:type="dcterms:W3CDTF">2010-02-10T04:15:37Z</dcterms:modified>
  <cp:revision>26</cp:revision>
  <dc:subject/>
  <dc:title>PowerPoint Presentation</dc:title>
</cp:coreProperties>
</file>